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wmf" ContentType="image/x-wmf"/>
  <Override PartName="/ppt/media/image24.png" ContentType="image/png"/>
  <Override PartName="/ppt/media/image23.jpeg" ContentType="image/jpeg"/>
  <Override PartName="/ppt/media/image12.png" ContentType="image/png"/>
  <Override PartName="/ppt/media/image20.png" ContentType="image/png"/>
  <Override PartName="/ppt/media/image4.jpeg" ContentType="image/jpeg"/>
  <Override PartName="/ppt/media/image16.wmf" ContentType="image/x-wmf"/>
  <Override PartName="/ppt/media/image8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11.wmf" ContentType="image/x-wmf"/>
  <Override PartName="/ppt/media/image30.jpeg" ContentType="image/jpeg"/>
  <Override PartName="/ppt/media/image15.png" ContentType="image/png"/>
  <Override PartName="/ppt/media/image31.png" ContentType="image/png"/>
  <Override PartName="/ppt/media/image34.png" ContentType="image/png"/>
  <Override PartName="/ppt/media/image3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9.png" ContentType="image/png"/>
  <Override PartName="/ppt/media/image2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7BAC-D3B1-4286-B6ED-56FB215CD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5D8C-0DAF-4DCB-9186-5F9F54C85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836C-FC24-4ABF-9FE0-16447B25A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E96A-0428-4F3C-8E67-CFF0EC72D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1840-E8B4-4E74-8A25-8407B531D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53D1-1BBD-4762-A334-71F7C9007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4A9F-3339-4143-9F30-7C337CDA6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3D24-61AB-47C1-84DB-14DB6991B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F7A6-5AD3-4373-9A21-60E322547D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031E-463B-4BB2-8336-8A3F341B72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287F-DB47-4496-9D71-A4FFBABCB7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A9C1-21CD-4CC1-B284-C66BD91E08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C129-403D-4740-AB0F-2C0CDC8569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6F2C-53E3-40FD-A85A-8EF7D4F8BD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53DD-0B00-467D-BAB9-E6F854C76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77F3-3CBE-404A-A7B8-CEBAE0EF6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11BE-44A9-4EBF-AB95-71EA8CF8DB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B6E4-8AE1-468C-BCD2-7788D70087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D5B1-AD16-4EF3-A6DF-7DDC14691F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564B-021C-41BD-BC8A-D83FBC1E2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29C5-9845-4B82-9DFB-E58C90619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0444-DB07-45CD-8F10-A07A37E3B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8642-A578-4771-B36A-3314A4E17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8A00-CCBE-46C3-85E9-73A7B3F34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C570-DCF6-4A09-A650-59DFE7398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6FB7-9AB5-4918-91E1-EC59F2D09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D2B6-ABE0-4826-8B27-EF7BC349E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2060-86DC-4C90-9664-6FA375939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0"/>
              <a:ext cx="9144000" cy="1523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507440" y="454680"/>
            <a:ext cx="16365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B1D50A2A-56EC-402B-AACB-C6F1D4B0364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6324480"/>
            <a:ext cx="9150480" cy="547920"/>
            <a:chOff x="0" y="6324480"/>
            <a:chExt cx="9150480" cy="547920"/>
          </a:xfrm>
        </p:grpSpPr>
        <p:sp>
          <p:nvSpPr>
            <p:cNvPr id="7" name="Rectangle 9"/>
            <p:cNvSpPr/>
            <p:nvPr/>
          </p:nvSpPr>
          <p:spPr>
            <a:xfrm>
              <a:off x="0" y="6324480"/>
              <a:ext cx="9144000" cy="5479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6415200"/>
              <a:ext cx="914400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6507000"/>
              <a:ext cx="9144000" cy="36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2846520" y="6551640"/>
              <a:ext cx="34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2012 Cengage Learning. All Rights Reserv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13"/>
            <p:cNvSpPr/>
            <p:nvPr/>
          </p:nvSpPr>
          <p:spPr>
            <a:xfrm>
              <a:off x="6921360" y="65372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rinciples of Business, 8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4"/>
          <p:cNvSpPr/>
          <p:nvPr/>
        </p:nvSpPr>
        <p:spPr>
          <a:xfrm>
            <a:off x="7238880" y="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 H A P T E R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0" y="6324480"/>
            <a:ext cx="9144000" cy="547920"/>
            <a:chOff x="0" y="6324480"/>
            <a:chExt cx="9144000" cy="547920"/>
          </a:xfrm>
        </p:grpSpPr>
        <p:sp>
          <p:nvSpPr>
            <p:cNvPr id="50" name="Rectangle 5"/>
            <p:cNvSpPr/>
            <p:nvPr/>
          </p:nvSpPr>
          <p:spPr>
            <a:xfrm>
              <a:off x="0" y="6324480"/>
              <a:ext cx="9144000" cy="5479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15200"/>
              <a:ext cx="914400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0" y="6507000"/>
              <a:ext cx="9144000" cy="36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2846520" y="6551640"/>
              <a:ext cx="34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2012 Cengage Learning. All Rights Reserv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0"/>
            <a:ext cx="9144000" cy="2932200"/>
            <a:chOff x="0" y="0"/>
            <a:chExt cx="9144000" cy="2932200"/>
          </a:xfrm>
        </p:grpSpPr>
        <p:sp>
          <p:nvSpPr>
            <p:cNvPr id="55" name="Rectangle 10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11"/>
            <p:cNvSpPr/>
            <p:nvPr/>
          </p:nvSpPr>
          <p:spPr>
            <a:xfrm>
              <a:off x="0" y="0"/>
              <a:ext cx="4572000" cy="2438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rc 12"/>
            <p:cNvSpPr/>
            <p:nvPr/>
          </p:nvSpPr>
          <p:spPr>
            <a:xfrm flipH="1">
              <a:off x="1371600" y="0"/>
              <a:ext cx="7772400" cy="2438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458640" y="2057400"/>
              <a:ext cx="7313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4" descr="9781111426941_lg"/>
            <p:cNvPicPr/>
            <p:nvPr/>
          </p:nvPicPr>
          <p:blipFill>
            <a:blip r:embed="rId2"/>
            <a:stretch/>
          </p:blipFill>
          <p:spPr>
            <a:xfrm>
              <a:off x="6858000" y="0"/>
              <a:ext cx="2286000" cy="293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552720" y="6414120"/>
            <a:ext cx="21337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30100198-FC62-47CA-BB24-87A6A430BD7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youtu.be/98BIu9dpwHU" TargetMode="External"/><Relationship Id="rId2" Type="http://schemas.openxmlformats.org/officeDocument/2006/relationships/hyperlink" Target="http://6abc.com/archive/9345852/" TargetMode="External"/><Relationship Id="rId3" Type="http://schemas.openxmlformats.org/officeDocument/2006/relationships/hyperlink" Target="http://youtu.be/cRTNvWcx9Oo" TargetMode="External"/><Relationship Id="rId4" Type="http://schemas.openxmlformats.org/officeDocument/2006/relationships/hyperlink" Target="http://youtu.be/cRTNvWcx9Oo" TargetMode="External"/><Relationship Id="rId5" Type="http://schemas.openxmlformats.org/officeDocument/2006/relationships/hyperlink" Target="http://youtu.be/cRTNvWcx9Oo" TargetMode="External"/><Relationship Id="rId6" Type="http://schemas.openxmlformats.org/officeDocument/2006/relationships/hyperlink" Target="http://en.wikipedia.org/wiki/Google" TargetMode="External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nterrasolutions.com/category/artificial-intelligence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B8D2E158-5B0E-45F5-853C-85D9BCBF78B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743200" y="3352680"/>
            <a:ext cx="6400800" cy="14965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11-1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11-2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pplications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11-3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echnolog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9781111426941_lg"/>
          <p:cNvPicPr/>
          <p:nvPr/>
        </p:nvPicPr>
        <p:blipFill>
          <a:blip r:embed="rId1"/>
          <a:stretch/>
        </p:blipFill>
        <p:spPr>
          <a:xfrm>
            <a:off x="0" y="3392640"/>
            <a:ext cx="2286000" cy="2931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0" y="106668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9907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C H A P T E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286000" y="1066680"/>
            <a:ext cx="556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and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01A64066-FFC4-4A20-8E41-9BE863AB78E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PUT AND PROCE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: 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Processing Unit (CPU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rol center of the computer  “BRA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detailed, step-by-step instructions that tell the computer what function to comple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of letter, words, numbers &amp; symbo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mmunicate with a compu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http://www.custom-build-computers.com/image-files/main-computer-components.jpg"/>
          <p:cNvPicPr/>
          <p:nvPr/>
        </p:nvPicPr>
        <p:blipFill>
          <a:blip r:embed="rId1"/>
          <a:stretch/>
        </p:blipFill>
        <p:spPr>
          <a:xfrm>
            <a:off x="6705720" y="1447920"/>
            <a:ext cx="2324160" cy="1876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http://www.jegsworks.com/LESSONS/ComputerBasics/lesson9/languages.gif"/>
          <p:cNvPicPr/>
          <p:nvPr/>
        </p:nvPicPr>
        <p:blipFill>
          <a:blip r:embed="rId2"/>
          <a:stretch/>
        </p:blipFill>
        <p:spPr>
          <a:xfrm>
            <a:off x="6642000" y="4648320"/>
            <a:ext cx="2387880" cy="162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495A0643-1542-47A8-9A0E-B0F2B4C32E9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PUT AND PROCE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415880"/>
            <a:ext cx="84582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in Types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s commands and allow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s to interact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uters hard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ly used Operating System: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that perform specific task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ktop pub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4191120" y="49276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457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readsheet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5791320" y="1415880"/>
            <a:ext cx="3319200" cy="1938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ttp://3.bp.blogspot.com/-Qjz7-PBM5hs/UzpUZNYAZmI/AAAAAAAAHGo/qKU3ghw9cfA/s1600/microsoft-office.png"/>
          <p:cNvPicPr/>
          <p:nvPr/>
        </p:nvPicPr>
        <p:blipFill>
          <a:blip r:embed="rId2"/>
          <a:stretch/>
        </p:blipFill>
        <p:spPr>
          <a:xfrm>
            <a:off x="7227720" y="4572000"/>
            <a:ext cx="1872000" cy="119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293B0AE4-59C9-4A65-A66A-5BC1A36617F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common input de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nput devices include keyboard, mouse, game controller, joystick, touch-sensitive screen, scanner, voice-activated system, microphone, and cam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DB10FFD5-BACF-42B3-B1D6-D1FB6DD6C16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MORY AND OUTPU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nd Storage: Saving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capac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uni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s, Flash Driv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Cards, external hard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064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99240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238880" y="455040"/>
            <a:ext cx="16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4B3A998-729B-4B89-A108-D2B1AF107AE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MORY &amp; OUTPU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Obtainin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 of video game, result of test, fin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data in a form that can be retrieved later or communicated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Output – Screen results or printe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 Output – logo, photo, drawings,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Output – music, broadcast clips,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Output – Film, TV, New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http://4.bp.blogspot.com/-pUG8iFUxwlQ/UHkcII9qRkI/AAAAAAAAAE4/P3_Yqx_M4aw/s1600/Output%2BDevices.jpg"/>
          <p:cNvPicPr/>
          <p:nvPr/>
        </p:nvPicPr>
        <p:blipFill>
          <a:blip r:embed="rId1"/>
          <a:stretch/>
        </p:blipFill>
        <p:spPr>
          <a:xfrm>
            <a:off x="5943600" y="79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B586A014-6A9F-457A-B925-CC90E987219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ternal and external memory di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memory is inside the compu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olds a fixed amount of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memory is not stored within the computer and it is highly por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6553080" y="641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E1D18619-0EDE-4CE6-8105-037810AA11A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24852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78080" indent="0"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1-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siness Application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echnology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1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omponents of a management information system (M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2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mputer applications in service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3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e-commerce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244EB6CF-3169-4C9A-ADCF-9507E94C140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KEY TER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information system (M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-assisted instruction (C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E74F0363-2108-49F2-9C5D-8CA731AAC7D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ANAGEMENT INFORMATION SYSTE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information syst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) is a coordinated system of processing and reporting information in an orga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s need information to make business deci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ystems and software are essential parts of 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3429000" y="4884840"/>
            <a:ext cx="5715000" cy="197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2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07A67260-FA7D-4610-85BD-D780AFEC8BD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42"/>
          <p:cNvSpPr/>
          <p:nvPr/>
        </p:nvSpPr>
        <p:spPr>
          <a:xfrm>
            <a:off x="2057400" y="2286000"/>
            <a:ext cx="5029200" cy="3200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ONENTS OF AN  MI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81" name="Picture 1037" descr=""/>
          <p:cNvPicPr/>
          <p:nvPr/>
        </p:nvPicPr>
        <p:blipFill>
          <a:blip r:embed="rId1"/>
          <a:stretch/>
        </p:blipFill>
        <p:spPr>
          <a:xfrm>
            <a:off x="3654360" y="4710240"/>
            <a:ext cx="1833480" cy="14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2" name="Picture 1039" descr=""/>
          <p:cNvPicPr/>
          <p:nvPr/>
        </p:nvPicPr>
        <p:blipFill>
          <a:blip r:embed="rId2"/>
          <a:stretch/>
        </p:blipFill>
        <p:spPr>
          <a:xfrm>
            <a:off x="3654360" y="1600200"/>
            <a:ext cx="1833480" cy="145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3" name="Picture 1036" descr=""/>
          <p:cNvPicPr/>
          <p:nvPr/>
        </p:nvPicPr>
        <p:blipFill>
          <a:blip r:embed="rId3"/>
          <a:stretch/>
        </p:blipFill>
        <p:spPr>
          <a:xfrm>
            <a:off x="6138720" y="3154320"/>
            <a:ext cx="1833840" cy="1451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4" name="Picture 1038" descr=""/>
          <p:cNvPicPr/>
          <p:nvPr/>
        </p:nvPicPr>
        <p:blipFill>
          <a:blip r:embed="rId4"/>
          <a:stretch/>
        </p:blipFill>
        <p:spPr>
          <a:xfrm>
            <a:off x="1138320" y="3165480"/>
            <a:ext cx="183348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5" name="Picture 1040" descr=""/>
          <p:cNvPicPr/>
          <p:nvPr/>
        </p:nvPicPr>
        <p:blipFill>
          <a:blip r:embed="rId5"/>
          <a:stretch/>
        </p:blipFill>
        <p:spPr>
          <a:xfrm>
            <a:off x="3338640" y="3430440"/>
            <a:ext cx="2463840" cy="9003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052"/>
          <p:cNvSpPr/>
          <p:nvPr/>
        </p:nvSpPr>
        <p:spPr>
          <a:xfrm rot="17947200">
            <a:off x="2742840" y="4814640"/>
            <a:ext cx="38124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53"/>
          <p:cNvSpPr/>
          <p:nvPr/>
        </p:nvSpPr>
        <p:spPr>
          <a:xfrm flipV="1" rot="14851800">
            <a:off x="2895120" y="2313720"/>
            <a:ext cx="380880" cy="533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54"/>
          <p:cNvSpPr/>
          <p:nvPr/>
        </p:nvSpPr>
        <p:spPr>
          <a:xfrm flipV="1" rot="3652800">
            <a:off x="6019560" y="4804560"/>
            <a:ext cx="38088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55"/>
          <p:cNvSpPr/>
          <p:nvPr/>
        </p:nvSpPr>
        <p:spPr>
          <a:xfrm rot="6748200">
            <a:off x="5791320" y="2285640"/>
            <a:ext cx="38088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553080" y="641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BC29FDDD-87D3-48AC-A112-0C3A8D7E43A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94216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1-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1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main elements of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2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input devices and process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3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computer storage media and output 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ONENTS OF AN  MI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4475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ctivities allow an organization to obtain information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s, sales reports, financia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&amp;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ummaries, tools / supplies, finished good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&amp;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needs, economic conditions,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ies, employee benefits, employee eval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D0DC5D11-DEBC-4EBE-B9D0-E946885AC9C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531A50AB-0DE2-4CD8-A4B2-B14BF5A1F82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Institutions, Government Agencies,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records, inventory reports, sales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raw data is collected, changing the info into meaningful information is the major goal of 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851002CF-5111-4925-834A-5BCB30326A5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MIS IN AC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information need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e organ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facts, figures, and other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, analyze, and organize data in a useful man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 information reports to those who make deci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 data files as need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6172200" y="0"/>
            <a:ext cx="3078000" cy="288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AEEF25C8-ADE6-4E25-B09E-9716071DAD1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components of a management information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ur component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da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da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ing data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2BF6448-CF7B-4764-AEAA-518C5452FBF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CHNOLOGY IN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RVICE INDUSTRI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0% of workers in the U.S. are employed in service indus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computers in these organizations is ext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3809880" y="4495680"/>
            <a:ext cx="426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885CA073-9D86-40C4-8ECF-5CA48680250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CHNOLOGY IN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RVICE INDUSTRI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Servi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, military, and police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ecurity Records, Military Record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Info, Police Records, School Records</a:t>
            </a:r>
            <a:br>
              <a:rPr sz="2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tional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districts, community colleges/univer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/Test Workers, Receive Instruction, Sim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r-Assisted Instru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use of computers to help people learn or improve skills at their own pa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formation Technolog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T) – Highly sought after skil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http://www.therightplanet.com/wp-content/uploads/2011/09/HUD.gif"/>
          <p:cNvPicPr/>
          <p:nvPr/>
        </p:nvPicPr>
        <p:blipFill>
          <a:blip r:embed="rId1"/>
          <a:stretch/>
        </p:blipFill>
        <p:spPr>
          <a:xfrm>
            <a:off x="6324480" y="838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://www.udsd.org/uploaded/documents/Jason_2/4180_-_32_copy.jpg"/>
          <p:cNvPicPr/>
          <p:nvPr/>
        </p:nvPicPr>
        <p:blipFill>
          <a:blip r:embed="rId2"/>
          <a:stretch/>
        </p:blipFill>
        <p:spPr>
          <a:xfrm>
            <a:off x="6937200" y="3352680"/>
            <a:ext cx="2067120" cy="137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3DDCC9D0-FA7B-47D8-9BCF-7C359851CD7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CHNOLOGY IN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RVICE INDUSTRI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care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and doctors’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ing patient records, monitoring me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emedic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ideoconferencing: diagnosis long-distance and treat locally; expanding health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services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s and insuran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Bill Pay, Checking Credit Scores, Selling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s – silicon chip stores personal info (banking, medical, travel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http://www.hcergo.org/iStock_000010501389XSmall.jpg"/>
          <p:cNvPicPr/>
          <p:nvPr/>
        </p:nvPicPr>
        <p:blipFill>
          <a:blip r:embed="rId1"/>
          <a:stretch/>
        </p:blipFill>
        <p:spPr>
          <a:xfrm>
            <a:off x="6477120" y="1143000"/>
            <a:ext cx="2181240" cy="1536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cdn2.hubspot.net/hub/397004/file-953829147-jpg/images/industries_financial.jpg?t=1421950374413"/>
          <p:cNvPicPr/>
          <p:nvPr/>
        </p:nvPicPr>
        <p:blipFill>
          <a:blip r:embed="rId2"/>
          <a:stretch/>
        </p:blipFill>
        <p:spPr>
          <a:xfrm>
            <a:off x="6477120" y="4114800"/>
            <a:ext cx="2438280" cy="105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7859F8B4-5784-46D0-A3D8-91EECF62E9C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66360" y="2037960"/>
            <a:ext cx="80391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rvice industries make extensive use of compu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industries that make extensive use of computers inclu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ervice organiz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s government, military, and police agenc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al institu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s local school districts, community colleges, and univers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 care fac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ch as hospitals and doctors’ offices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services indust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ch as banks and insurance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848764A1-5093-4E69-9EBB-7D335434F03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-COMMER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conducting business transactions using Internet or other 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e-commerce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ing product 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a comp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ling onl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ducting market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ing pay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taining parts and suppl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cking ship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http://www.tmogroup.asia/wp-content/uploads/2014/06/multipayment.jpg"/>
          <p:cNvPicPr/>
          <p:nvPr/>
        </p:nvPicPr>
        <p:blipFill>
          <a:blip r:embed="rId1"/>
          <a:stretch/>
        </p:blipFill>
        <p:spPr>
          <a:xfrm>
            <a:off x="5562720" y="3505320"/>
            <a:ext cx="352404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14ACD3DA-DCDB-4269-ABD0-73E0E87FFA6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"/>
          <p:cNvPicPr/>
          <p:nvPr/>
        </p:nvPicPr>
        <p:blipFill>
          <a:blip r:embed="rId1"/>
          <a:stretch/>
        </p:blipFill>
        <p:spPr>
          <a:xfrm>
            <a:off x="4245120" y="4114800"/>
            <a:ext cx="4898880" cy="27766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YPES OF E-COMMER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types of 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-to-Consumer (B2C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buys 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-to-Business (B2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d buying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-to-Business (C2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eline, consumer off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-to-Consumer (C2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Bay transac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EB8DE15-0291-4FDC-82DA-91E6DECBE16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KEY TER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unit (CP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E6BB291C-03C9-46F0-9DA7-9F27EEDAE1C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GLOBAL E-COMMER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-based computer systems &amp; software that translates info from one language to another, makes it possible to do business around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 transmission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ing &amp; exporting can take place on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conferencing – bringing people toge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while miles away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B7BB450E-08A8-4C15-85F8-0D8A18B4DF1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37760" y="2037960"/>
            <a:ext cx="84963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notations B2C and B2B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ation B2C refers to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-to-Consumer e-commerce model, while B2B means the Business-to-Busin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6553080" y="641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D736E787-E451-4EF2-825B-B9F8991AC21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94216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78080" indent="0"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1-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her Technology Issu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1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orkplace uses of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2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home and personal applications of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3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social concerns related to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68347B55-FD29-4BB1-B987-86D440B87E4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KEY TER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intelligence (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-aided design 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comm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E084A38-F9B3-4C4A-9035-AC350758785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ORKPLACE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 help impro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&amp;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mechanical devices programmed to do tasks, such as those in many fa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Bots – simple tasks, tighten b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– see, hear, smell, feel; 24-hour worker, perform dangerous task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1" descr="http://www.roboticsbusinessreview.com/images/article/siemens_robot2.jpg"/>
          <p:cNvPicPr/>
          <p:nvPr/>
        </p:nvPicPr>
        <p:blipFill>
          <a:blip r:embed="rId1"/>
          <a:stretch/>
        </p:blipFill>
        <p:spPr>
          <a:xfrm>
            <a:off x="5870520" y="1450800"/>
            <a:ext cx="2590920" cy="218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Drone Deliveries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zon Prime Air_x000b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ABC News - Dec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AZON.COM SEES 30 MINUTE DELIVERY WITH D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ogle</a:t>
            </a:r>
            <a:r>
              <a:rPr b="0" lang="en-US" sz="32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[x]  </a:t>
            </a:r>
            <a:r>
              <a:rPr b="0" lang="en-US" sz="32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- Project W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ug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gle[x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mi-secret facility run by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oo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dedicated to making major technological advan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B23F6879-2B03-45C5-93AD-E55F2108761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7E4B371E-A2D7-435A-B9A3-6B558688F62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ORKPLACE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uter programs that help people solve technical problems. Provides intelligent answers based on human expert knowledg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550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550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550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al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telligence (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that enables computers to reason, learn, and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http://www.enterrasolutions.com/media/Google-DeepMind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05640" y="3276720"/>
            <a:ext cx="2520720" cy="213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7490CE5D-9BC7-4BA4-96B4-BDEC1D8B562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ORKPLACE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-aided desig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technology to create product styles and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variations before spending time and money on building model or going to p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comm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of a worker using a computer at home to do their job.  (Saves on travel time &amp; c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raffic and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 alternative for disabled or stay-at-home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http://images.macworld.com/images/article/2011/06/autocad-screenshotlarge-240760.jpg"/>
          <p:cNvPicPr/>
          <p:nvPr/>
        </p:nvPicPr>
        <p:blipFill>
          <a:blip r:embed="rId1"/>
          <a:stretch/>
        </p:blipFill>
        <p:spPr>
          <a:xfrm>
            <a:off x="6218280" y="0"/>
            <a:ext cx="292572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F5AF3DCE-7EAF-403E-91CC-82E4698B7D0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omputer-aided design (CAD) used by busi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es use CAD to experiment with many variations of sizes, shapes, and materials before spending time and money on building prototypes or starting actual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A2BF30D1-8DE7-4081-AB2E-219A82E319F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HOME AND PERSONAL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and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ources, presentation software,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itive chores: vacuuming, m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Toys:  entertain, edu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hopping, financial records, downloa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books, recipe storage, medical record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www.clipartlord.com/wp-content/uploads/2014/02/robot19.png"/>
          <p:cNvPicPr/>
          <p:nvPr/>
        </p:nvPicPr>
        <p:blipFill>
          <a:blip r:embed="rId1"/>
          <a:stretch/>
        </p:blipFill>
        <p:spPr>
          <a:xfrm>
            <a:off x="6781680" y="3429000"/>
            <a:ext cx="1944720" cy="176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25764F18-13B4-4CB7-873C-409CE8FEB32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LEMENTS OF A </a:t>
            </a:r>
            <a:br>
              <a:rPr sz="4000"/>
            </a:b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COMPUTER SYSTE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75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functioning components of a computer, including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62120" y="3579840"/>
            <a:ext cx="7696080" cy="3338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3962520" y="2279520"/>
            <a:ext cx="464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mory an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pu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E46C1BA1-4955-4949-B8F2-0849F7FA3F6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90040" y="2037960"/>
            <a:ext cx="811548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technology tools are availabl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ilable tools include word processing software for preparing written assignments, Internet browsers for conducting research, online dictionaries and encyclopedias, and presentation software for creating slide show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872B4995-DBC3-4BE9-9173-CED29E31E64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y will continue to expand the potential uses of computers in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oftware will eliminate some jobs while increasing job growth i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computer use has resulted in concerns about health, safety, criminal activities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F0D42845-4F16-4A61-A033-DA364887953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mployment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d workers – unemployed because of job changing condi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eed – programming, operating, repairing computer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iteracy – the ability to use computers to process info or solv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4333086E-FDEB-4B09-BE4B-7F5057AE539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alth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strain, vision problems, muscle tension, nerve damage, back pain - too long sitting staring at compu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http://www.dailytidings.com/storyimage/DT/20110310/NEWS/103100313/AR/0/AR-103100313.jpg"/>
          <p:cNvPicPr/>
          <p:nvPr/>
        </p:nvPicPr>
        <p:blipFill>
          <a:blip r:embed="rId1"/>
          <a:stretch/>
        </p:blipFill>
        <p:spPr>
          <a:xfrm>
            <a:off x="1792440" y="3198960"/>
            <a:ext cx="5715000" cy="367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1F5A8EA0-C6C5-4587-9636-55D3B8BAD80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7696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hite-collar crim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illegal acts  carried out by office or professional workers while at wor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eal money or info through illegal access to compu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irac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stealing/illegally copying software packages or info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pyright laws apply to software as well as books/mus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uter viru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program code hidden in a system that can later do damage to software or stored dat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5564160" y="-17640"/>
            <a:ext cx="359748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A5585FAB-949E-4CAE-9EA3-68B4AA708C0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8390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challenge facing compute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r security systems needed, smarter h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. change passwords needed to access info several times a day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mcast – login, pin, 2 min password on key f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ntity Th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ieves obtain personal info and apply for credit card or access their bank ac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5360" indent="-21924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Trade Commission – 9 million people have their identities stolen in the U.S. each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http://www.identityguard.com/wp-content/uploads/2012/09/identity-theft-online-e1346776783193.jpg"/>
          <p:cNvPicPr/>
          <p:nvPr/>
        </p:nvPicPr>
        <p:blipFill>
          <a:blip r:embed="rId1"/>
          <a:stretch/>
        </p:blipFill>
        <p:spPr>
          <a:xfrm>
            <a:off x="5800680" y="0"/>
            <a:ext cx="334332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" descr=""/>
          <p:cNvPicPr/>
          <p:nvPr/>
        </p:nvPicPr>
        <p:blipFill>
          <a:blip r:embed="rId2"/>
          <a:stretch/>
        </p:blipFill>
        <p:spPr>
          <a:xfrm>
            <a:off x="0" y="5638680"/>
            <a:ext cx="177624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8B2C7AAB-830B-47E9-99E2-67878196401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companies suffer from software pi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iracy robs the creators of software of their legal pro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very expensive to develop new software, often requiring teams of hundreds of workers for a single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software piracy, companies have fewer dollars available to spend on creating new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LEMENTS OF A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UTER SYSTE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elements of a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: Keyboard, cameras, microphone, speaker, monitor, printer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that run the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:  Microsoft Office Suit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Word, Excel, Powerpoint, Publisher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E81EF59F-DDC7-4008-B5AF-8FDECF868F9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www.differencebetween.info/sites/default/files/images/hardware-vs-software.jpg"/>
          <p:cNvPicPr/>
          <p:nvPr/>
        </p:nvPicPr>
        <p:blipFill>
          <a:blip r:embed="rId1"/>
          <a:stretch/>
        </p:blipFill>
        <p:spPr>
          <a:xfrm>
            <a:off x="6095880" y="3505320"/>
            <a:ext cx="259092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UTER NETWOR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874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computers that are linked together so users can share hardware, software &amp;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  UDS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st-known compu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4DF4FB2-ADF0-4FC9-8E55-B275C677B43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russbellew.com/siteimages/computernetwork_iStock_000004660040XSmall-2.jpg"/>
          <p:cNvPicPr/>
          <p:nvPr/>
        </p:nvPicPr>
        <p:blipFill>
          <a:blip r:embed="rId1"/>
          <a:stretch/>
        </p:blipFill>
        <p:spPr>
          <a:xfrm>
            <a:off x="5537160" y="358128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BA56822F-0BAD-4815-A90E-13032128BE8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26"/>
          <p:cNvSpPr/>
          <p:nvPr/>
        </p:nvSpPr>
        <p:spPr>
          <a:xfrm>
            <a:off x="4954680" y="2209680"/>
            <a:ext cx="3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UTER NETWOR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computer network (Int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 – Global Are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cessing the World Wide Web (ww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changing e-mail, commun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computer network (int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– Local Are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like a typical website, but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share information within an organization by authorize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B2B2F4F2-B830-4EB4-B019-7EFB5D98BF9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our main elements of a compu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an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71034A88-D6BA-4AC0-8E2F-6226F2599B1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PUT AND PROCE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getting started; first major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De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 &amp;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pad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tops – alternativ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s/Joystick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 Scree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– alternativ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 Devic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code Scanners – Track Sales/Inventory/Sh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cam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Confere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er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words/images into computer-readable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-Activated Systems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ken words translated to data/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phon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1.bp.blogspot.com/-GeBogQz-XUI/UHhOQeF7l1I/AAAAAAAAAVo/z_ZNLFguhNg/s1600/input+device.jpg"/>
          <p:cNvPicPr/>
          <p:nvPr/>
        </p:nvPicPr>
        <p:blipFill>
          <a:blip r:embed="rId1"/>
          <a:stretch/>
        </p:blipFill>
        <p:spPr>
          <a:xfrm>
            <a:off x="6553080" y="2565360"/>
            <a:ext cx="2133720" cy="163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13:34Z</dcterms:created>
  <dc:creator>Brian</dc:creator>
  <dc:description/>
  <dc:language>en-US</dc:language>
  <cp:lastModifiedBy>Jessica Sundling</cp:lastModifiedBy>
  <dcterms:modified xsi:type="dcterms:W3CDTF">2015-02-04T14:21:28Z</dcterms:modified>
  <cp:revision>56</cp:revision>
  <dc:subject/>
  <dc:title>Business and Technology</dc:title>
</cp:coreProperties>
</file>